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26D-7EE5-41CE-BA63-33ED37D8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916-26B2-4058-A8A7-2B740951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1BB-4C8F-4C6E-B906-3C2C1CAF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BF2-A025-40DD-8D16-33AF504E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1B9B-C916-4BC3-BC75-4820460D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56AE-E023-43BA-A5CB-C1DF2041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79A7-C398-46F4-A35A-A0341652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F36F-E1B0-48C2-8FF1-6ED50950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88A7-8BF9-4DE1-A697-D80900EB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3082-0F15-4165-8226-7CEB1DA9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A090-C7C8-4174-B131-C947619A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44B-291A-4D54-84BA-9515A1BF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22F0-3387-4B40-B017-530B1D80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AD13-B718-4684-B9C0-F6BEE614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68BA-4ED8-4378-88BB-D0DC54E6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9786-944F-44F0-BA95-C6B82B4F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168F-E69D-4C7C-AD24-042FD90E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7CF3-7276-4D45-85E5-651C4C0D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7CA-3996-45E2-9BB9-BCB76428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867-85D6-4F53-9D4B-6D411F2A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113-B6B8-4A02-AE88-9CC9D61D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0B3-30EE-40CA-80D2-C1B848BE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8AFF-F0C2-450B-95DC-339061E1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9048-826C-4A93-BF9A-DC169AAE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8ACC-0D9C-4522-8595-F7E4CF2D8B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3271680" y="4221000"/>
            <a:ext cx="5872320" cy="2637000"/>
          </a:xfrm>
          <a:custGeom>
            <a:avLst/>
            <a:gdLst/>
            <a:ahLst/>
            <a:rect l="l" t="t" r="r" b="b"/>
            <a:pathLst>
              <a:path w="3699" h="2613">
                <a:moveTo>
                  <a:pt x="1523" y="2611"/>
                </a:moveTo>
                <a:lnTo>
                  <a:pt x="3698" y="2612"/>
                </a:lnTo>
                <a:lnTo>
                  <a:pt x="3698" y="2228"/>
                </a:lnTo>
                <a:lnTo>
                  <a:pt x="0" y="0"/>
                </a:lnTo>
                <a:lnTo>
                  <a:pt x="160" y="118"/>
                </a:lnTo>
                <a:lnTo>
                  <a:pt x="292" y="219"/>
                </a:lnTo>
                <a:lnTo>
                  <a:pt x="441" y="347"/>
                </a:lnTo>
                <a:lnTo>
                  <a:pt x="585" y="482"/>
                </a:lnTo>
                <a:lnTo>
                  <a:pt x="796" y="711"/>
                </a:lnTo>
                <a:lnTo>
                  <a:pt x="983" y="955"/>
                </a:lnTo>
                <a:lnTo>
                  <a:pt x="1119" y="1168"/>
                </a:lnTo>
                <a:lnTo>
                  <a:pt x="1238" y="1388"/>
                </a:lnTo>
                <a:lnTo>
                  <a:pt x="1331" y="1608"/>
                </a:lnTo>
                <a:lnTo>
                  <a:pt x="1400" y="1809"/>
                </a:lnTo>
                <a:lnTo>
                  <a:pt x="1447" y="1979"/>
                </a:lnTo>
                <a:lnTo>
                  <a:pt x="1490" y="2190"/>
                </a:lnTo>
                <a:lnTo>
                  <a:pt x="1511" y="2374"/>
                </a:lnTo>
                <a:lnTo>
                  <a:pt x="1523" y="2611"/>
                </a:lnTo>
              </a:path>
            </a:pathLst>
          </a:custGeom>
          <a:gradFill rotWithShape="0">
            <a:gsLst>
              <a:gs pos="0">
                <a:srgbClr val="182f76"/>
              </a:gs>
              <a:gs pos="100000">
                <a:srgbClr val="33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Arc 4"/>
          <p:cNvSpPr/>
          <p:nvPr/>
        </p:nvSpPr>
        <p:spPr>
          <a:xfrm>
            <a:off x="-1035000" y="3500280"/>
            <a:ext cx="6726240" cy="3357720"/>
          </a:xfrm>
          <a:custGeom>
            <a:avLst/>
            <a:gdLst/>
            <a:ahLst/>
            <a:rect l="l" t="t" r="r" b="b"/>
            <a:pathLst>
              <a:path fill="none" w="21600" h="21231">
                <a:moveTo>
                  <a:pt x="3976" y="0"/>
                </a:moveTo>
                <a:cubicBezTo>
                  <a:pt x="14194" y="1914"/>
                  <a:pt x="21600" y="10835"/>
                  <a:pt x="21600" y="21231"/>
                </a:cubicBezTo>
              </a:path>
              <a:path stroke="0" w="21600" h="21231">
                <a:moveTo>
                  <a:pt x="3976" y="0"/>
                </a:moveTo>
                <a:cubicBezTo>
                  <a:pt x="14194" y="1914"/>
                  <a:pt x="21600" y="10835"/>
                  <a:pt x="21600" y="21231"/>
                </a:cubicBezTo>
                <a:lnTo>
                  <a:pt x="0" y="21231"/>
                </a:lnTo>
                <a:lnTo>
                  <a:pt x="3976" y="0"/>
                </a:lnTo>
                <a:close/>
              </a:path>
            </a:pathLst>
          </a:custGeom>
          <a:noFill/>
          <a:ln cap="rnd" w="12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E046-1A21-4E6A-ACAB-F243971E74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image" Target="../media/image2.gif"/><Relationship Id="rId8" Type="http://schemas.openxmlformats.org/officeDocument/2006/relationships/image" Target="../media/image3.gif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вторим преобразован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33520" y="5715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0" y="1916280"/>
            <a:ext cx="29163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ля получения графика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функции </a:t>
            </a:r>
            <a:r>
              <a:rPr b="1" i="1" lang="ru-RU" sz="2800" spc="-1" strike="noStrike">
                <a:solidFill>
                  <a:srgbClr val="ffcc66"/>
                </a:solidFill>
                <a:latin typeface="Times New Roman"/>
              </a:rPr>
              <a:t>у=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f(x)+m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з график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функции </a:t>
            </a:r>
            <a:r>
              <a:rPr b="1" i="1" lang="ru-RU" sz="2800" spc="-1" strike="noStrike">
                <a:solidFill>
                  <a:srgbClr val="ffcc66"/>
                </a:solidFill>
                <a:latin typeface="Times New Roman"/>
              </a:rPr>
              <a:t>у=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f(x)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еобходимо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местить его по оси О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единиц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Freeform 50"/>
          <p:cNvSpPr/>
          <p:nvPr/>
        </p:nvSpPr>
        <p:spPr>
          <a:xfrm>
            <a:off x="3132000" y="3705120"/>
            <a:ext cx="5112000" cy="1019160"/>
          </a:xfrm>
          <a:custGeom>
            <a:avLst/>
            <a:gdLst/>
            <a:ahLst/>
            <a:rect l="l" t="t" r="r" b="b"/>
            <a:pathLst>
              <a:path w="3220" h="642">
                <a:moveTo>
                  <a:pt x="0" y="642"/>
                </a:moveTo>
                <a:cubicBezTo>
                  <a:pt x="242" y="328"/>
                  <a:pt x="484" y="14"/>
                  <a:pt x="862" y="7"/>
                </a:cubicBezTo>
                <a:cubicBezTo>
                  <a:pt x="1240" y="0"/>
                  <a:pt x="1875" y="597"/>
                  <a:pt x="2268" y="597"/>
                </a:cubicBezTo>
                <a:cubicBezTo>
                  <a:pt x="2661" y="597"/>
                  <a:pt x="2940" y="302"/>
                  <a:pt x="3220" y="7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Freeform 51"/>
          <p:cNvSpPr/>
          <p:nvPr/>
        </p:nvSpPr>
        <p:spPr>
          <a:xfrm>
            <a:off x="3132000" y="3716280"/>
            <a:ext cx="5112000" cy="1019160"/>
          </a:xfrm>
          <a:custGeom>
            <a:avLst/>
            <a:gdLst/>
            <a:ahLst/>
            <a:rect l="l" t="t" r="r" b="b"/>
            <a:pathLst>
              <a:path w="3220" h="642">
                <a:moveTo>
                  <a:pt x="0" y="642"/>
                </a:moveTo>
                <a:cubicBezTo>
                  <a:pt x="242" y="328"/>
                  <a:pt x="484" y="14"/>
                  <a:pt x="862" y="7"/>
                </a:cubicBezTo>
                <a:cubicBezTo>
                  <a:pt x="1240" y="0"/>
                  <a:pt x="1875" y="597"/>
                  <a:pt x="2268" y="597"/>
                </a:cubicBezTo>
                <a:cubicBezTo>
                  <a:pt x="2661" y="597"/>
                  <a:pt x="2940" y="302"/>
                  <a:pt x="3220" y="7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7777080" y="2997360"/>
            <a:ext cx="136692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Freeform 52"/>
          <p:cNvSpPr/>
          <p:nvPr/>
        </p:nvSpPr>
        <p:spPr>
          <a:xfrm>
            <a:off x="3132000" y="3716280"/>
            <a:ext cx="5112000" cy="1019160"/>
          </a:xfrm>
          <a:custGeom>
            <a:avLst/>
            <a:gdLst/>
            <a:ahLst/>
            <a:rect l="l" t="t" r="r" b="b"/>
            <a:pathLst>
              <a:path w="3220" h="642">
                <a:moveTo>
                  <a:pt x="0" y="642"/>
                </a:moveTo>
                <a:cubicBezTo>
                  <a:pt x="242" y="328"/>
                  <a:pt x="484" y="14"/>
                  <a:pt x="862" y="7"/>
                </a:cubicBezTo>
                <a:cubicBezTo>
                  <a:pt x="1240" y="0"/>
                  <a:pt x="1875" y="597"/>
                  <a:pt x="2268" y="597"/>
                </a:cubicBezTo>
                <a:cubicBezTo>
                  <a:pt x="2661" y="597"/>
                  <a:pt x="2940" y="302"/>
                  <a:pt x="3220" y="7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Text Box 55"/>
          <p:cNvSpPr/>
          <p:nvPr/>
        </p:nvSpPr>
        <p:spPr>
          <a:xfrm>
            <a:off x="5867280" y="6165720"/>
            <a:ext cx="32418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y=f(x)+m, m&lt;0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Text Box 54"/>
          <p:cNvSpPr/>
          <p:nvPr/>
        </p:nvSpPr>
        <p:spPr>
          <a:xfrm>
            <a:off x="5867280" y="1628640"/>
            <a:ext cx="32418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y=f(x)+m, m&gt;0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93" name="Group 64"/>
          <p:cNvGrpSpPr/>
          <p:nvPr/>
        </p:nvGrpSpPr>
        <p:grpSpPr>
          <a:xfrm>
            <a:off x="3059280" y="836640"/>
            <a:ext cx="6190920" cy="6021000"/>
            <a:chOff x="3059280" y="836640"/>
            <a:chExt cx="6190920" cy="6021000"/>
          </a:xfrm>
        </p:grpSpPr>
        <p:sp>
          <p:nvSpPr>
            <p:cNvPr id="94" name="Line 48"/>
            <p:cNvSpPr/>
            <p:nvPr/>
          </p:nvSpPr>
          <p:spPr>
            <a:xfrm>
              <a:off x="3059280" y="4076640"/>
              <a:ext cx="5833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5" name="Line 49"/>
            <p:cNvSpPr/>
            <p:nvPr/>
          </p:nvSpPr>
          <p:spPr>
            <a:xfrm flipV="1">
              <a:off x="5435640" y="1267920"/>
              <a:ext cx="0" cy="558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6" name="Text Box 56"/>
            <p:cNvSpPr/>
            <p:nvPr/>
          </p:nvSpPr>
          <p:spPr>
            <a:xfrm>
              <a:off x="8675640" y="3860640"/>
              <a:ext cx="5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7" name="Text Box 57"/>
            <p:cNvSpPr/>
            <p:nvPr/>
          </p:nvSpPr>
          <p:spPr>
            <a:xfrm>
              <a:off x="5508720" y="83664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98" name="Group 60"/>
          <p:cNvGrpSpPr/>
          <p:nvPr/>
        </p:nvGrpSpPr>
        <p:grpSpPr>
          <a:xfrm>
            <a:off x="4427640" y="2276280"/>
            <a:ext cx="718920" cy="1439640"/>
            <a:chOff x="4427640" y="2276280"/>
            <a:chExt cx="718920" cy="1439640"/>
          </a:xfrm>
        </p:grpSpPr>
        <p:sp>
          <p:nvSpPr>
            <p:cNvPr id="99" name="Line 58"/>
            <p:cNvSpPr/>
            <p:nvPr/>
          </p:nvSpPr>
          <p:spPr>
            <a:xfrm flipV="1">
              <a:off x="4427640" y="2276280"/>
              <a:ext cx="0" cy="143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0" name="Text Box 59"/>
            <p:cNvSpPr/>
            <p:nvPr/>
          </p:nvSpPr>
          <p:spPr>
            <a:xfrm>
              <a:off x="4572000" y="2637000"/>
              <a:ext cx="5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101" name="Group 61"/>
          <p:cNvGrpSpPr/>
          <p:nvPr/>
        </p:nvGrpSpPr>
        <p:grpSpPr>
          <a:xfrm>
            <a:off x="4427640" y="3715920"/>
            <a:ext cx="718920" cy="1439640"/>
            <a:chOff x="4427640" y="3715920"/>
            <a:chExt cx="718920" cy="1439640"/>
          </a:xfrm>
        </p:grpSpPr>
        <p:sp>
          <p:nvSpPr>
            <p:cNvPr id="102" name="Line 62"/>
            <p:cNvSpPr/>
            <p:nvPr/>
          </p:nvSpPr>
          <p:spPr>
            <a:xfrm flipV="1">
              <a:off x="4427640" y="3715920"/>
              <a:ext cx="0" cy="143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3" name="Text Box 63"/>
            <p:cNvSpPr/>
            <p:nvPr/>
          </p:nvSpPr>
          <p:spPr>
            <a:xfrm>
              <a:off x="4572000" y="4076640"/>
              <a:ext cx="5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52601E-006 L -1.66667E-006 -0.22034 E">
                                      <p:cBhvr>
                                        <p:cTn id="1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31214E-006 L 4.44444E-006 0.20971 E">
                                      <p:cBhvr>
                                        <p:cTn id="2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1"/>
          <p:cNvGrpSpPr/>
          <p:nvPr/>
        </p:nvGrpSpPr>
        <p:grpSpPr>
          <a:xfrm>
            <a:off x="108000" y="44280"/>
            <a:ext cx="6540480" cy="6814800"/>
            <a:chOff x="108000" y="44280"/>
            <a:chExt cx="6540480" cy="6814800"/>
          </a:xfrm>
        </p:grpSpPr>
        <p:sp>
          <p:nvSpPr>
            <p:cNvPr id="174" name="Line 5"/>
            <p:cNvSpPr/>
            <p:nvPr/>
          </p:nvSpPr>
          <p:spPr>
            <a:xfrm>
              <a:off x="324000" y="4414680"/>
              <a:ext cx="5224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 flipV="1">
              <a:off x="3492360" y="1802880"/>
              <a:ext cx="0" cy="5054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5353200" y="4219560"/>
              <a:ext cx="51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7" name="Text Box 8"/>
            <p:cNvSpPr/>
            <p:nvPr/>
          </p:nvSpPr>
          <p:spPr>
            <a:xfrm>
              <a:off x="3492360" y="1484280"/>
              <a:ext cx="51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>
              <a:off x="324000" y="4005360"/>
              <a:ext cx="51847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3564000" y="3429000"/>
              <a:ext cx="51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 flipV="1">
              <a:off x="1908000" y="1773000"/>
              <a:ext cx="0" cy="48956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1" name="Text Box 12"/>
            <p:cNvSpPr/>
            <p:nvPr/>
          </p:nvSpPr>
          <p:spPr>
            <a:xfrm>
              <a:off x="1908000" y="443700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Times New Roman"/>
                </a:rPr>
                <a:t>-4</a:t>
              </a:r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2" name="Text Box 13"/>
            <p:cNvSpPr/>
            <p:nvPr/>
          </p:nvSpPr>
          <p:spPr>
            <a:xfrm>
              <a:off x="250920" y="335772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1" i="1" lang="ru-RU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3" name="Text Box 14"/>
            <p:cNvSpPr/>
            <p:nvPr/>
          </p:nvSpPr>
          <p:spPr>
            <a:xfrm>
              <a:off x="1908000" y="62164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=-4</a:t>
              </a:r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4" name="Freeform 15"/>
            <p:cNvSpPr/>
            <p:nvPr/>
          </p:nvSpPr>
          <p:spPr>
            <a:xfrm>
              <a:off x="108000" y="4138560"/>
              <a:ext cx="1690560" cy="2427480"/>
            </a:xfrm>
            <a:custGeom>
              <a:avLst/>
              <a:gdLst/>
              <a:ahLst/>
              <a:rect l="l" t="t" r="r" b="b"/>
              <a:pathLst>
                <a:path w="1065" h="1529">
                  <a:moveTo>
                    <a:pt x="0" y="7"/>
                  </a:moveTo>
                  <a:cubicBezTo>
                    <a:pt x="148" y="48"/>
                    <a:pt x="708" y="0"/>
                    <a:pt x="886" y="254"/>
                  </a:cubicBezTo>
                  <a:cubicBezTo>
                    <a:pt x="1064" y="508"/>
                    <a:pt x="1028" y="1264"/>
                    <a:pt x="1065" y="1529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5" name="Freeform 16"/>
            <p:cNvSpPr/>
            <p:nvPr/>
          </p:nvSpPr>
          <p:spPr>
            <a:xfrm>
              <a:off x="1911240" y="1773360"/>
              <a:ext cx="3524400" cy="2184120"/>
            </a:xfrm>
            <a:custGeom>
              <a:avLst/>
              <a:gdLst/>
              <a:ahLst/>
              <a:rect l="l" t="t" r="r" b="b"/>
              <a:pathLst>
                <a:path w="2220" h="1376">
                  <a:moveTo>
                    <a:pt x="43" y="0"/>
                  </a:moveTo>
                  <a:cubicBezTo>
                    <a:pt x="96" y="191"/>
                    <a:pt x="0" y="922"/>
                    <a:pt x="363" y="1149"/>
                  </a:cubicBezTo>
                  <a:cubicBezTo>
                    <a:pt x="726" y="1376"/>
                    <a:pt x="1833" y="1317"/>
                    <a:pt x="2220" y="1361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6" name="Text Box 18"/>
            <p:cNvSpPr/>
            <p:nvPr/>
          </p:nvSpPr>
          <p:spPr>
            <a:xfrm>
              <a:off x="324000" y="333360"/>
              <a:ext cx="632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ffff"/>
                  </a:solidFill>
                  <a:latin typeface="Times New Roman"/>
                </a:rPr>
                <a:t>Функция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                     </a:t>
              </a:r>
              <a:r>
                <a:rPr b="0" lang="ru-RU" sz="3200" spc="-1" strike="noStrike">
                  <a:solidFill>
                    <a:srgbClr val="00ffff"/>
                  </a:solidFill>
                  <a:latin typeface="Times New Roman"/>
                </a:rPr>
                <a:t>имеет график</a:t>
              </a:r>
              <a:r>
                <a:rPr b="0" lang="ru-RU" sz="2800" spc="-1" strike="noStrike">
                  <a:solidFill>
                    <a:srgbClr val="00ffff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19"/>
                <p:cNvSpPr txBox="1"/>
                <p:nvPr/>
              </p:nvSpPr>
              <p:spPr>
                <a:xfrm>
                  <a:off x="2195640" y="44280"/>
                  <a:ext cx="1830240" cy="11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8" name="Text Box 20"/>
          <p:cNvSpPr/>
          <p:nvPr/>
        </p:nvSpPr>
        <p:spPr>
          <a:xfrm>
            <a:off x="6084720" y="2565360"/>
            <a:ext cx="2590920" cy="31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симптоты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cc"/>
                </a:solidFill>
                <a:latin typeface="Times New Roman"/>
              </a:rPr>
              <a:t>х=-4 и  у=1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рафик –          </a:t>
            </a:r>
            <a:r>
              <a:rPr b="1" lang="ru-RU" sz="3600" spc="-1" strike="noStrike" u="sng">
                <a:solidFill>
                  <a:srgbClr val="cc99ff"/>
                </a:solidFill>
                <a:uFillTx/>
                <a:latin typeface="Times New Roman"/>
              </a:rPr>
              <a:t>гипербол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-36360" y="-38520"/>
            <a:ext cx="92152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5428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Указать ассимтоты гиперболы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5"/>
              <p:cNvSpPr txBox="1"/>
              <p:nvPr/>
            </p:nvSpPr>
            <p:spPr>
              <a:xfrm>
                <a:off x="250920" y="1700280"/>
                <a:ext cx="3787560" cy="41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5364000" y="1751040"/>
                <a:ext cx="3418200" cy="42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Ответы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-36360" y="-31680"/>
            <a:ext cx="9215280" cy="985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54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Определить, какая из функций являетс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42880"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дробно-линейной, построить ее график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3"/>
              <p:cNvSpPr txBox="1"/>
              <p:nvPr/>
            </p:nvSpPr>
            <p:spPr>
              <a:xfrm>
                <a:off x="3240" y="1165320"/>
                <a:ext cx="2584440" cy="21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94" name="Group 6"/>
          <p:cNvGrpSpPr/>
          <p:nvPr/>
        </p:nvGrpSpPr>
        <p:grpSpPr>
          <a:xfrm>
            <a:off x="178920" y="3429000"/>
            <a:ext cx="2268720" cy="1584360"/>
            <a:chOff x="178920" y="3429000"/>
            <a:chExt cx="2268720" cy="1584360"/>
          </a:xfrm>
        </p:grpSpPr>
        <mc:AlternateContent>
          <mc:Choice xmlns:a14="http://schemas.microsoft.com/office/drawing/2010/main" Requires="a14">
            <p:sp>
              <p:nvSpPr>
                <p:cNvPr id="195" name="Object 7"/>
                <p:cNvSpPr txBox="1"/>
                <p:nvPr/>
              </p:nvSpPr>
              <p:spPr>
                <a:xfrm>
                  <a:off x="369720" y="3502080"/>
                  <a:ext cx="1948320" cy="15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mr>
                        <m:m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  <m:e>
                            <m:r>
                              <m:t xml:space="preserve">3</m:t>
                            </m:r>
                          </m:e>
                        </m:mr>
                        <m:mr>
                          <m:e>
                            <m:r>
                              <m:t xml:space="preserve">2</m:t>
                            </m:r>
                          </m:e>
                          <m:e/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Line 8"/>
            <p:cNvSpPr/>
            <p:nvPr/>
          </p:nvSpPr>
          <p:spPr>
            <a:xfrm>
              <a:off x="1467000" y="3429000"/>
              <a:ext cx="0" cy="86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 flipH="1">
              <a:off x="1467000" y="3934080"/>
              <a:ext cx="980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8" name="Line 10"/>
            <p:cNvSpPr/>
            <p:nvPr/>
          </p:nvSpPr>
          <p:spPr>
            <a:xfrm flipH="1">
              <a:off x="240840" y="4510080"/>
              <a:ext cx="981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9" name="Line 11"/>
            <p:cNvSpPr/>
            <p:nvPr/>
          </p:nvSpPr>
          <p:spPr>
            <a:xfrm flipH="1">
              <a:off x="178920" y="4005360"/>
              <a:ext cx="245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0" name="Object 12"/>
              <p:cNvSpPr txBox="1"/>
              <p:nvPr/>
            </p:nvSpPr>
            <p:spPr>
              <a:xfrm>
                <a:off x="179280" y="5084640"/>
                <a:ext cx="33847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1" name="Group 13"/>
          <p:cNvGrpSpPr/>
          <p:nvPr/>
        </p:nvGrpSpPr>
        <p:grpSpPr>
          <a:xfrm>
            <a:off x="4500720" y="3141720"/>
            <a:ext cx="4031640" cy="3496680"/>
            <a:chOff x="4500720" y="3141720"/>
            <a:chExt cx="4031640" cy="3496680"/>
          </a:xfrm>
        </p:grpSpPr>
        <p:grpSp>
          <p:nvGrpSpPr>
            <p:cNvPr id="202" name="Group 14"/>
            <p:cNvGrpSpPr/>
            <p:nvPr/>
          </p:nvGrpSpPr>
          <p:grpSpPr>
            <a:xfrm>
              <a:off x="4521960" y="5034960"/>
              <a:ext cx="4010400" cy="459720"/>
              <a:chOff x="4521960" y="5034960"/>
              <a:chExt cx="4010400" cy="459720"/>
            </a:xfrm>
          </p:grpSpPr>
          <p:sp>
            <p:nvSpPr>
              <p:cNvPr id="203" name="Line 15"/>
              <p:cNvSpPr/>
              <p:nvPr/>
            </p:nvSpPr>
            <p:spPr>
              <a:xfrm>
                <a:off x="4521960" y="5150520"/>
                <a:ext cx="3778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4" name="Text Box 16"/>
              <p:cNvSpPr/>
              <p:nvPr/>
            </p:nvSpPr>
            <p:spPr>
              <a:xfrm>
                <a:off x="8161560" y="5034960"/>
                <a:ext cx="37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205" name="Group 17"/>
            <p:cNvGrpSpPr/>
            <p:nvPr/>
          </p:nvGrpSpPr>
          <p:grpSpPr>
            <a:xfrm>
              <a:off x="5808240" y="3141720"/>
              <a:ext cx="350280" cy="3496680"/>
              <a:chOff x="5808240" y="3141720"/>
              <a:chExt cx="350280" cy="3496680"/>
            </a:xfrm>
          </p:grpSpPr>
          <p:sp>
            <p:nvSpPr>
              <p:cNvPr id="206" name="Line 18"/>
              <p:cNvSpPr/>
              <p:nvPr/>
            </p:nvSpPr>
            <p:spPr>
              <a:xfrm flipV="1">
                <a:off x="5808240" y="3391560"/>
                <a:ext cx="0" cy="3246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7" name="Text Box 19"/>
              <p:cNvSpPr/>
              <p:nvPr/>
            </p:nvSpPr>
            <p:spPr>
              <a:xfrm>
                <a:off x="5844960" y="3141720"/>
                <a:ext cx="31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208" name="Line 20"/>
            <p:cNvSpPr/>
            <p:nvPr/>
          </p:nvSpPr>
          <p:spPr>
            <a:xfrm flipV="1">
              <a:off x="6373080" y="3219840"/>
              <a:ext cx="0" cy="33796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09" name="Line 21"/>
            <p:cNvSpPr/>
            <p:nvPr/>
          </p:nvSpPr>
          <p:spPr>
            <a:xfrm>
              <a:off x="4500720" y="4443480"/>
              <a:ext cx="36356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0" name="Text Box 22"/>
            <p:cNvSpPr/>
            <p:nvPr/>
          </p:nvSpPr>
          <p:spPr>
            <a:xfrm>
              <a:off x="6329160" y="5157720"/>
              <a:ext cx="395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1" name="Text Box 23"/>
            <p:cNvSpPr/>
            <p:nvPr/>
          </p:nvSpPr>
          <p:spPr>
            <a:xfrm>
              <a:off x="5755680" y="4168440"/>
              <a:ext cx="39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2" name="Freeform 24"/>
            <p:cNvSpPr/>
            <p:nvPr/>
          </p:nvSpPr>
          <p:spPr>
            <a:xfrm>
              <a:off x="4566600" y="4522680"/>
              <a:ext cx="1719360" cy="1894320"/>
            </a:xfrm>
            <a:custGeom>
              <a:avLst/>
              <a:gdLst/>
              <a:ahLst/>
              <a:rect l="l" t="t" r="r" b="b"/>
              <a:pathLst>
                <a:path w="1770" h="2177">
                  <a:moveTo>
                    <a:pt x="0" y="0"/>
                  </a:moveTo>
                  <a:cubicBezTo>
                    <a:pt x="246" y="89"/>
                    <a:pt x="1180" y="174"/>
                    <a:pt x="1475" y="537"/>
                  </a:cubicBezTo>
                  <a:cubicBezTo>
                    <a:pt x="1770" y="900"/>
                    <a:pt x="1708" y="1835"/>
                    <a:pt x="1769" y="2177"/>
                  </a:cubicBezTo>
                </a:path>
              </a:pathLst>
            </a:custGeom>
            <a:noFill/>
            <a:ln w="381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3" name="Freeform 25"/>
            <p:cNvSpPr/>
            <p:nvPr/>
          </p:nvSpPr>
          <p:spPr>
            <a:xfrm>
              <a:off x="6511680" y="3214440"/>
              <a:ext cx="1564920" cy="1137960"/>
            </a:xfrm>
            <a:custGeom>
              <a:avLst/>
              <a:gdLst/>
              <a:ahLst/>
              <a:rect l="l" t="t" r="r" b="b"/>
              <a:pathLst>
                <a:path w="1611" h="1308">
                  <a:moveTo>
                    <a:pt x="1611" y="1308"/>
                  </a:moveTo>
                  <a:cubicBezTo>
                    <a:pt x="1404" y="1254"/>
                    <a:pt x="639" y="1194"/>
                    <a:pt x="371" y="976"/>
                  </a:cubicBezTo>
                  <a:cubicBezTo>
                    <a:pt x="103" y="758"/>
                    <a:pt x="77" y="203"/>
                    <a:pt x="0" y="0"/>
                  </a:cubicBezTo>
                </a:path>
              </a:pathLst>
            </a:custGeom>
            <a:noFill/>
            <a:ln w="381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4" name="Text Box 26"/>
            <p:cNvSpPr/>
            <p:nvPr/>
          </p:nvSpPr>
          <p:spPr>
            <a:xfrm>
              <a:off x="6418440" y="6259320"/>
              <a:ext cx="57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x=</a:t>
              </a:r>
              <a:r>
                <a:rPr b="0" i="1" lang="ru-RU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5" name="Text Box 27"/>
            <p:cNvSpPr/>
            <p:nvPr/>
          </p:nvSpPr>
          <p:spPr>
            <a:xfrm>
              <a:off x="4697640" y="4127400"/>
              <a:ext cx="57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y=3</a:t>
              </a:r>
              <a:endParaRPr b="0" lang="en-US" sz="20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216" name="TextBox 2"/>
          <p:cNvSpPr/>
          <p:nvPr/>
        </p:nvSpPr>
        <p:spPr>
          <a:xfrm>
            <a:off x="2849400" y="19162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- дробно-линейная функция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0" y="44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Найти все точки графика с целыми координатам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5"/>
              <p:cNvSpPr txBox="1"/>
              <p:nvPr/>
            </p:nvSpPr>
            <p:spPr>
              <a:xfrm>
                <a:off x="1763640" y="981000"/>
                <a:ext cx="220680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6"/>
              <p:cNvSpPr txBox="1"/>
              <p:nvPr/>
            </p:nvSpPr>
            <p:spPr>
              <a:xfrm>
                <a:off x="4140360" y="981000"/>
                <a:ext cx="22460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20" name="Group 13"/>
          <p:cNvGrpSpPr/>
          <p:nvPr/>
        </p:nvGrpSpPr>
        <p:grpSpPr>
          <a:xfrm>
            <a:off x="178920" y="2349360"/>
            <a:ext cx="2268720" cy="1584360"/>
            <a:chOff x="178920" y="2349360"/>
            <a:chExt cx="2268720" cy="1584360"/>
          </a:xfrm>
        </p:grpSpPr>
        <mc:AlternateContent>
          <mc:Choice xmlns:a14="http://schemas.microsoft.com/office/drawing/2010/main" Requires="a14">
            <p:sp>
              <p:nvSpPr>
                <p:cNvPr id="221" name="Object 7"/>
                <p:cNvSpPr txBox="1"/>
                <p:nvPr/>
              </p:nvSpPr>
              <p:spPr>
                <a:xfrm>
                  <a:off x="302400" y="2422440"/>
                  <a:ext cx="2084760" cy="15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t xml:space="preserve">8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mr>
                        <m:mr>
                          <m:e>
                            <m:r>
                              <m:t xml:space="preserve">8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  <m:e>
                            <m:r>
                              <m:t xml:space="preserve">8</m:t>
                            </m:r>
                          </m:e>
                        </m:mr>
                        <m:mr>
                          <m:e>
                            <m:r>
                              <m:t xml:space="preserve">7</m:t>
                            </m:r>
                          </m:e>
                          <m:e/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222" name="Line 9"/>
            <p:cNvSpPr/>
            <p:nvPr/>
          </p:nvSpPr>
          <p:spPr>
            <a:xfrm>
              <a:off x="1467000" y="2349360"/>
              <a:ext cx="0" cy="86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23" name="Line 10"/>
            <p:cNvSpPr/>
            <p:nvPr/>
          </p:nvSpPr>
          <p:spPr>
            <a:xfrm flipH="1">
              <a:off x="1467000" y="2854440"/>
              <a:ext cx="980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 flipH="1">
              <a:off x="240840" y="3430440"/>
              <a:ext cx="981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25" name="Line 12"/>
            <p:cNvSpPr/>
            <p:nvPr/>
          </p:nvSpPr>
          <p:spPr>
            <a:xfrm flipH="1">
              <a:off x="178920" y="2925720"/>
              <a:ext cx="245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6" name="Object 14"/>
              <p:cNvSpPr txBox="1"/>
              <p:nvPr/>
            </p:nvSpPr>
            <p:spPr>
              <a:xfrm>
                <a:off x="2898720" y="2492280"/>
                <a:ext cx="624528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=</m:t>
                          </m:r>
                          <m:r>
                            <m:t xml:space="preserve">7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8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9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6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27" name="Text Box 15"/>
          <p:cNvSpPr/>
          <p:nvPr/>
        </p:nvSpPr>
        <p:spPr>
          <a:xfrm>
            <a:off x="1763640" y="4869000"/>
            <a:ext cx="547236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Отве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8;9), (-6;7), (2;15), (0;1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"/>
          <p:cNvGrpSpPr/>
          <p:nvPr/>
        </p:nvGrpSpPr>
        <p:grpSpPr>
          <a:xfrm>
            <a:off x="324000" y="1268280"/>
            <a:ext cx="5687640" cy="5660280"/>
            <a:chOff x="324000" y="1268280"/>
            <a:chExt cx="5687640" cy="5660280"/>
          </a:xfrm>
        </p:grpSpPr>
        <p:sp>
          <p:nvSpPr>
            <p:cNvPr id="105" name="Line 5"/>
            <p:cNvSpPr/>
            <p:nvPr/>
          </p:nvSpPr>
          <p:spPr>
            <a:xfrm>
              <a:off x="324000" y="4314240"/>
              <a:ext cx="5359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6" name="Line 6"/>
            <p:cNvSpPr/>
            <p:nvPr/>
          </p:nvSpPr>
          <p:spPr>
            <a:xfrm flipV="1">
              <a:off x="2507040" y="1673640"/>
              <a:ext cx="0" cy="525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7" name="Text Box 7"/>
            <p:cNvSpPr/>
            <p:nvPr/>
          </p:nvSpPr>
          <p:spPr>
            <a:xfrm>
              <a:off x="5483880" y="4111200"/>
              <a:ext cx="52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>
              <a:off x="2574360" y="1268280"/>
              <a:ext cx="52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109" name="Freeform 9"/>
          <p:cNvSpPr/>
          <p:nvPr/>
        </p:nvSpPr>
        <p:spPr>
          <a:xfrm>
            <a:off x="2340000" y="1916280"/>
            <a:ext cx="2043000" cy="3587760"/>
          </a:xfrm>
          <a:custGeom>
            <a:avLst/>
            <a:gdLst/>
            <a:ahLst/>
            <a:rect l="l" t="t" r="r" b="b"/>
            <a:pathLst>
              <a:path w="1287" h="2260">
                <a:moveTo>
                  <a:pt x="0" y="0"/>
                </a:moveTo>
                <a:cubicBezTo>
                  <a:pt x="60" y="365"/>
                  <a:pt x="210" y="2124"/>
                  <a:pt x="362" y="2192"/>
                </a:cubicBezTo>
                <a:cubicBezTo>
                  <a:pt x="514" y="2260"/>
                  <a:pt x="756" y="549"/>
                  <a:pt x="910" y="408"/>
                </a:cubicBezTo>
                <a:cubicBezTo>
                  <a:pt x="1064" y="267"/>
                  <a:pt x="1209" y="1148"/>
                  <a:pt x="1287" y="1343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2124000" y="0"/>
            <a:ext cx="1656000" cy="764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Freeform 13"/>
          <p:cNvSpPr/>
          <p:nvPr/>
        </p:nvSpPr>
        <p:spPr>
          <a:xfrm>
            <a:off x="2340000" y="1916280"/>
            <a:ext cx="2043000" cy="3587760"/>
          </a:xfrm>
          <a:custGeom>
            <a:avLst/>
            <a:gdLst/>
            <a:ahLst/>
            <a:rect l="l" t="t" r="r" b="b"/>
            <a:pathLst>
              <a:path w="1287" h="2260">
                <a:moveTo>
                  <a:pt x="0" y="0"/>
                </a:moveTo>
                <a:cubicBezTo>
                  <a:pt x="60" y="365"/>
                  <a:pt x="210" y="2124"/>
                  <a:pt x="362" y="2192"/>
                </a:cubicBezTo>
                <a:cubicBezTo>
                  <a:pt x="514" y="2260"/>
                  <a:pt x="756" y="549"/>
                  <a:pt x="910" y="408"/>
                </a:cubicBezTo>
                <a:cubicBezTo>
                  <a:pt x="1064" y="267"/>
                  <a:pt x="1209" y="1148"/>
                  <a:pt x="1287" y="1343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Freeform 14"/>
          <p:cNvSpPr/>
          <p:nvPr/>
        </p:nvSpPr>
        <p:spPr>
          <a:xfrm>
            <a:off x="2340000" y="1916280"/>
            <a:ext cx="2043000" cy="3587760"/>
          </a:xfrm>
          <a:custGeom>
            <a:avLst/>
            <a:gdLst/>
            <a:ahLst/>
            <a:rect l="l" t="t" r="r" b="b"/>
            <a:pathLst>
              <a:path w="1287" h="2260">
                <a:moveTo>
                  <a:pt x="0" y="0"/>
                </a:moveTo>
                <a:cubicBezTo>
                  <a:pt x="60" y="365"/>
                  <a:pt x="210" y="2124"/>
                  <a:pt x="362" y="2192"/>
                </a:cubicBezTo>
                <a:cubicBezTo>
                  <a:pt x="514" y="2260"/>
                  <a:pt x="756" y="549"/>
                  <a:pt x="910" y="408"/>
                </a:cubicBezTo>
                <a:cubicBezTo>
                  <a:pt x="1064" y="267"/>
                  <a:pt x="1209" y="1148"/>
                  <a:pt x="1287" y="1343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211640" y="981000"/>
            <a:ext cx="22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(x-n), n&gt;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34920" y="907920"/>
            <a:ext cx="22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(x-n), n&lt;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2916360" y="5300280"/>
            <a:ext cx="1944720" cy="642600"/>
            <a:chOff x="2916360" y="5300280"/>
            <a:chExt cx="1944720" cy="642600"/>
          </a:xfrm>
        </p:grpSpPr>
        <p:sp>
          <p:nvSpPr>
            <p:cNvPr id="116" name="Line 15"/>
            <p:cNvSpPr/>
            <p:nvPr/>
          </p:nvSpPr>
          <p:spPr>
            <a:xfrm>
              <a:off x="2916360" y="5445000"/>
              <a:ext cx="194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3489480" y="530028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118" name="Group 18"/>
          <p:cNvGrpSpPr/>
          <p:nvPr/>
        </p:nvGrpSpPr>
        <p:grpSpPr>
          <a:xfrm>
            <a:off x="971640" y="5300280"/>
            <a:ext cx="1944720" cy="642600"/>
            <a:chOff x="971640" y="5300280"/>
            <a:chExt cx="1944720" cy="642600"/>
          </a:xfrm>
        </p:grpSpPr>
        <p:sp>
          <p:nvSpPr>
            <p:cNvPr id="119" name="Line 19"/>
            <p:cNvSpPr/>
            <p:nvPr/>
          </p:nvSpPr>
          <p:spPr>
            <a:xfrm>
              <a:off x="971640" y="5445000"/>
              <a:ext cx="194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0" name="Text Box 20"/>
            <p:cNvSpPr/>
            <p:nvPr/>
          </p:nvSpPr>
          <p:spPr>
            <a:xfrm>
              <a:off x="1544760" y="530028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121" name="Text Box 21"/>
          <p:cNvSpPr/>
          <p:nvPr/>
        </p:nvSpPr>
        <p:spPr>
          <a:xfrm>
            <a:off x="5940360" y="2492280"/>
            <a:ext cx="320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ля получения данного графика из графика функции </a:t>
            </a: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у=</a:t>
            </a: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f</a:t>
            </a: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(х)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необходимо сместить его по оси О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на </a:t>
            </a: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единиц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17919E-006 L 0.2191 0.00092 E">
                                      <p:cBhvr>
                                        <p:cTn id="47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17919E-006 L -0.21406 0.00092 E">
                                      <p:cBhvr>
                                        <p:cTn id="5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4"/>
          <p:cNvGrpSpPr/>
          <p:nvPr/>
        </p:nvGrpSpPr>
        <p:grpSpPr>
          <a:xfrm>
            <a:off x="324000" y="1268280"/>
            <a:ext cx="4248000" cy="5660280"/>
            <a:chOff x="324000" y="1268280"/>
            <a:chExt cx="4248000" cy="5660280"/>
          </a:xfrm>
        </p:grpSpPr>
        <p:sp>
          <p:nvSpPr>
            <p:cNvPr id="123" name="Line 5"/>
            <p:cNvSpPr/>
            <p:nvPr/>
          </p:nvSpPr>
          <p:spPr>
            <a:xfrm>
              <a:off x="324000" y="4314240"/>
              <a:ext cx="4002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4" name="Line 6"/>
            <p:cNvSpPr/>
            <p:nvPr/>
          </p:nvSpPr>
          <p:spPr>
            <a:xfrm flipV="1">
              <a:off x="1954440" y="1673640"/>
              <a:ext cx="0" cy="525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5" name="Text Box 7"/>
            <p:cNvSpPr/>
            <p:nvPr/>
          </p:nvSpPr>
          <p:spPr>
            <a:xfrm>
              <a:off x="4177800" y="4111200"/>
              <a:ext cx="39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2004480" y="1268280"/>
              <a:ext cx="39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127" name="Freeform 10"/>
          <p:cNvSpPr/>
          <p:nvPr/>
        </p:nvSpPr>
        <p:spPr>
          <a:xfrm>
            <a:off x="684360" y="3429000"/>
            <a:ext cx="1655640" cy="2855880"/>
          </a:xfrm>
          <a:custGeom>
            <a:avLst/>
            <a:gdLst/>
            <a:ahLst/>
            <a:rect l="l" t="t" r="r" b="b"/>
            <a:pathLst>
              <a:path w="1043" h="1799">
                <a:moveTo>
                  <a:pt x="0" y="0"/>
                </a:moveTo>
                <a:cubicBezTo>
                  <a:pt x="67" y="778"/>
                  <a:pt x="135" y="1557"/>
                  <a:pt x="226" y="1678"/>
                </a:cubicBezTo>
                <a:cubicBezTo>
                  <a:pt x="317" y="1799"/>
                  <a:pt x="408" y="1006"/>
                  <a:pt x="544" y="726"/>
                </a:cubicBezTo>
                <a:cubicBezTo>
                  <a:pt x="680" y="446"/>
                  <a:pt x="861" y="223"/>
                  <a:pt x="1043" y="0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Freeform 11"/>
          <p:cNvSpPr/>
          <p:nvPr/>
        </p:nvSpPr>
        <p:spPr>
          <a:xfrm>
            <a:off x="684360" y="3429000"/>
            <a:ext cx="1655640" cy="2855880"/>
          </a:xfrm>
          <a:custGeom>
            <a:avLst/>
            <a:gdLst/>
            <a:ahLst/>
            <a:rect l="l" t="t" r="r" b="b"/>
            <a:pathLst>
              <a:path w="1043" h="1799">
                <a:moveTo>
                  <a:pt x="0" y="0"/>
                </a:moveTo>
                <a:cubicBezTo>
                  <a:pt x="67" y="778"/>
                  <a:pt x="135" y="1557"/>
                  <a:pt x="226" y="1678"/>
                </a:cubicBezTo>
                <a:cubicBezTo>
                  <a:pt x="317" y="1799"/>
                  <a:pt x="408" y="1006"/>
                  <a:pt x="544" y="726"/>
                </a:cubicBezTo>
                <a:cubicBezTo>
                  <a:pt x="680" y="446"/>
                  <a:pt x="861" y="223"/>
                  <a:pt x="1043" y="0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29" name="Group 15"/>
          <p:cNvGrpSpPr/>
          <p:nvPr/>
        </p:nvGrpSpPr>
        <p:grpSpPr>
          <a:xfrm>
            <a:off x="1116000" y="4581000"/>
            <a:ext cx="2303640" cy="1584720"/>
            <a:chOff x="1116000" y="4581000"/>
            <a:chExt cx="2303640" cy="1584720"/>
          </a:xfrm>
        </p:grpSpPr>
        <p:sp>
          <p:nvSpPr>
            <p:cNvPr id="130" name="Line 13"/>
            <p:cNvSpPr/>
            <p:nvPr/>
          </p:nvSpPr>
          <p:spPr>
            <a:xfrm flipV="1">
              <a:off x="3419640" y="4581000"/>
              <a:ext cx="0" cy="1582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1" name="Line 14"/>
            <p:cNvSpPr/>
            <p:nvPr/>
          </p:nvSpPr>
          <p:spPr>
            <a:xfrm>
              <a:off x="1116000" y="6165720"/>
              <a:ext cx="230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132" name="Text Box 16"/>
          <p:cNvSpPr/>
          <p:nvPr/>
        </p:nvSpPr>
        <p:spPr>
          <a:xfrm>
            <a:off x="2484360" y="836640"/>
            <a:ext cx="2952720" cy="764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(x-m)+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2124000" y="6021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3348000" y="51577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4643280" y="1844640"/>
            <a:ext cx="45007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График данной функции получен из графика функции у=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(х) смещением по оси О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на </a:t>
            </a: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единиц и по оси О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на </a:t>
            </a: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единиц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0" y="2349360"/>
            <a:ext cx="1619280" cy="764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44444E-006 2.89017E-007 L 0.25209 2.89017E-007 L 0.25209 -0.22011 E">
                                      <p:cBhvr>
                                        <p:cTn id="79" dur="3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0"/>
          <p:cNvSpPr/>
          <p:nvPr/>
        </p:nvSpPr>
        <p:spPr>
          <a:xfrm>
            <a:off x="8028000" y="981000"/>
            <a:ext cx="792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33"/>
                </a:solidFill>
                <a:latin typeface="Arial Black"/>
              </a:rPr>
              <a:t>!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539640" y="549360"/>
                <a:ext cx="3170520" cy="57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5148360" y="620640"/>
                <a:ext cx="3002040" cy="547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Text Box 9"/>
          <p:cNvSpPr/>
          <p:nvPr/>
        </p:nvSpPr>
        <p:spPr>
          <a:xfrm>
            <a:off x="8028000" y="907920"/>
            <a:ext cx="79200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33"/>
                </a:solidFill>
                <a:latin typeface="Arial Black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8101080" y="2276640"/>
            <a:ext cx="792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33"/>
                </a:solidFill>
                <a:latin typeface="Arial Black"/>
              </a:rPr>
              <a:t>!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8101080" y="2203560"/>
            <a:ext cx="79200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33"/>
                </a:solidFill>
                <a:latin typeface="Arial Black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8172360" y="3573360"/>
            <a:ext cx="792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33"/>
                </a:solidFill>
                <a:latin typeface="Arial Black"/>
              </a:rPr>
              <a:t>!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8172360" y="3500280"/>
            <a:ext cx="79236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33"/>
                </a:solidFill>
                <a:latin typeface="Arial Black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Garamond"/>
              </a:rPr>
              <a:t>УРОК МАТЕМАТИКИ</a:t>
            </a:r>
            <a:br>
              <a:rPr sz="4800"/>
            </a:br>
            <a:br>
              <a:rPr sz="6000"/>
            </a:br>
            <a:r>
              <a:rPr b="1" lang="ru-RU" sz="4800" spc="-1" strike="noStrike">
                <a:solidFill>
                  <a:srgbClr val="ffcc66"/>
                </a:solidFill>
                <a:latin typeface="Garamond"/>
              </a:rPr>
              <a:t>Дробно-линейная функция и её график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6" name="Picture 15" descr="J0336470"/>
          <p:cNvPicPr/>
          <p:nvPr/>
        </p:nvPicPr>
        <p:blipFill>
          <a:blip r:embed="rId1"/>
          <a:stretch/>
        </p:blipFill>
        <p:spPr>
          <a:xfrm>
            <a:off x="7848720" y="457200"/>
            <a:ext cx="9144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2666880" y="533520"/>
            <a:ext cx="32767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666880" y="685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План урок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62120" y="1905120"/>
            <a:ext cx="32004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Повторим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преобразова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4876920" y="1905120"/>
            <a:ext cx="274320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Определени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Line 16"/>
          <p:cNvSpPr/>
          <p:nvPr/>
        </p:nvSpPr>
        <p:spPr>
          <a:xfrm flipH="1">
            <a:off x="1752480" y="1413000"/>
            <a:ext cx="2603520" cy="49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4876920" y="3733920"/>
            <a:ext cx="2666880" cy="761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33"/>
                </a:solidFill>
                <a:uFillTx/>
                <a:latin typeface="Times New Roman"/>
                <a:hlinkClick r:id="rId4" action="ppaction://hlinksldjump"/>
              </a:rPr>
              <a:t>План построен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Rectangle 25"/>
          <p:cNvSpPr/>
          <p:nvPr/>
        </p:nvSpPr>
        <p:spPr>
          <a:xfrm>
            <a:off x="4952880" y="5257800"/>
            <a:ext cx="2667240" cy="1066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33"/>
                </a:solidFill>
                <a:uFillTx/>
                <a:latin typeface="Times New Roman"/>
                <a:hlinkClick r:id="rId5" action="ppaction://hlinksldjump"/>
              </a:rPr>
              <a:t>Пример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построен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Line 29"/>
          <p:cNvSpPr/>
          <p:nvPr/>
        </p:nvSpPr>
        <p:spPr>
          <a:xfrm>
            <a:off x="6248520" y="274320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Line 31"/>
          <p:cNvSpPr/>
          <p:nvPr/>
        </p:nvSpPr>
        <p:spPr>
          <a:xfrm>
            <a:off x="6324480" y="449568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3962520" y="236232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7" name="Picture 35" descr="J0178230"/>
          <p:cNvPicPr/>
          <p:nvPr/>
        </p:nvPicPr>
        <p:blipFill>
          <a:blip r:embed="rId7"/>
          <a:stretch/>
        </p:blipFill>
        <p:spPr>
          <a:xfrm>
            <a:off x="1066680" y="35053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6" descr="J0178232"/>
          <p:cNvPicPr/>
          <p:nvPr/>
        </p:nvPicPr>
        <p:blipFill>
          <a:blip r:embed="rId8"/>
          <a:stretch/>
        </p:blipFill>
        <p:spPr>
          <a:xfrm>
            <a:off x="7924680" y="60948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7" descr="J0178231"/>
          <p:cNvPicPr/>
          <p:nvPr/>
        </p:nvPicPr>
        <p:blipFill>
          <a:blip r:embed="rId9"/>
          <a:stretch/>
        </p:blipFill>
        <p:spPr>
          <a:xfrm>
            <a:off x="2209680" y="548640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8" descr="J0178313"/>
          <p:cNvPicPr/>
          <p:nvPr/>
        </p:nvPicPr>
        <p:blipFill>
          <a:blip r:embed="rId10"/>
          <a:stretch/>
        </p:blipFill>
        <p:spPr>
          <a:xfrm>
            <a:off x="3429000" y="3733920"/>
            <a:ext cx="8002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75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175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675"/>
                            </p:stCondLst>
                            <p:childTnLst>
                              <p:par>
                                <p:cTn id="1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7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325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825"/>
                            </p:stCondLst>
                            <p:childTnLst>
                              <p:par>
                                <p:cTn id="1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75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75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7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1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1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79280" y="260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33"/>
                </a:solidFill>
                <a:uFillTx/>
                <a:latin typeface="Times New Roman"/>
              </a:rPr>
              <a:t>ОПРЕДЕЛЕНИЕ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39640" y="1066680"/>
            <a:ext cx="829944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ункцию, заданную формулой вида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де    х - переменная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- заданные числа,  называют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i="1" lang="ru-RU" sz="3200" spc="-1" strike="noStrike" u="sng">
                <a:solidFill>
                  <a:srgbClr val="00ffff"/>
                </a:solidFill>
                <a:uFillTx/>
                <a:latin typeface="Times New Roman"/>
              </a:rPr>
              <a:t>ДРОБНО-ЛИНЕЙНОЙ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971640" y="5373720"/>
            <a:ext cx="64767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фиком  дробно-линейной функции являетс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гипербол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0"/>
              <p:cNvSpPr txBox="1"/>
              <p:nvPr/>
            </p:nvSpPr>
            <p:spPr>
              <a:xfrm>
                <a:off x="2556000" y="1484280"/>
                <a:ext cx="21780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1295280" y="609480"/>
            <a:ext cx="6477120" cy="152424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513440" y="981000"/>
            <a:ext cx="599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ЛАН ПОСТРОЕНИЯ ГРАФИКА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РОБНО-ЛИНЕЙНОЙ ФУНКЦИ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371600" y="3048120"/>
            <a:ext cx="62485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99ff"/>
                </a:solidFill>
                <a:latin typeface="Times New Roman"/>
              </a:rPr>
              <a:t>ВЫДЕЛЯЕМ ИЗ ДРОБИ  ЦЕЛУЮ ЧАС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99ff"/>
                </a:solidFill>
                <a:latin typeface="Times New Roman"/>
              </a:rPr>
              <a:t>ОПРЕДЕЛЯЕМ АСИМПТОТЫ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99ff"/>
                </a:solidFill>
                <a:latin typeface="Times New Roman"/>
              </a:rPr>
              <a:t>СОСТАВЛЯЕМ ТАБЛИЦУ ДЛЯ ФУНКЦИИ </a:t>
            </a:r>
            <a:r>
              <a:rPr b="1" i="1" lang="en-US" sz="2400" spc="-1" strike="noStrike">
                <a:solidFill>
                  <a:srgbClr val="cc99ff"/>
                </a:solidFill>
                <a:latin typeface="Times New Roman"/>
              </a:rPr>
              <a:t>y=f(x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99ff"/>
                </a:solidFill>
                <a:latin typeface="Times New Roman"/>
              </a:rPr>
              <a:t>СТРОИМ ГРАФИК ФУНКЦИИ НА        АСИМПТОТАХ  КАК НА ОСЯ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ПРИМЕР ПОСТРОЕН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0" y="1341360"/>
            <a:ext cx="7924680" cy="53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АДАНИЕ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роить график функции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делим целую часть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аем функцию вида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симптотами являются прямые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х = -4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у =1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роим асимптоты, а затем на них как на осях построим график функци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cc66"/>
                </a:solidFill>
                <a:latin typeface="Times New Roman"/>
              </a:rPr>
              <a:t>у= 2/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афик на следующем слайде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8"/>
              <p:cNvSpPr txBox="1"/>
              <p:nvPr/>
            </p:nvSpPr>
            <p:spPr>
              <a:xfrm>
                <a:off x="5724360" y="1268280"/>
                <a:ext cx="15116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0"/>
              <p:cNvSpPr txBox="1"/>
              <p:nvPr/>
            </p:nvSpPr>
            <p:spPr>
              <a:xfrm>
                <a:off x="179280" y="2708280"/>
                <a:ext cx="42847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4289400" y="3284640"/>
                <a:ext cx="208440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12:05:36Z</dcterms:created>
  <dc:creator>User</dc:creator>
  <dc:description/>
  <dc:language>en-US</dc:language>
  <cp:lastModifiedBy>Учитель</cp:lastModifiedBy>
  <dcterms:modified xsi:type="dcterms:W3CDTF">2016-11-29T06:56:37Z</dcterms:modified>
  <cp:revision>69</cp:revision>
  <dc:subject/>
  <dc:title>УРОК МАТЕМАТИКИ  «Дробно-линейная функция и её график»</dc:title>
</cp:coreProperties>
</file>